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4D9-E3FC-45E4-A53C-BAEE2082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870-B794-4D7A-88B4-E8157739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B2C-9C2E-4D4D-B8FA-BE7FA099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106-998D-4A8C-A836-5B17BC74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383-B043-471B-8556-A0EF41D9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EF0-73FA-44A4-AEFC-555E44C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F42-9065-4D85-AE0B-0DFA5283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E0C-0658-4A3D-A56B-3BA15F1C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E91-303F-4335-9E52-9412E14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8AF-9C17-4758-89E6-728C76DC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319-499D-485C-99F6-31C2F8B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495-FC48-4EAB-BA7D-5AC51B8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61D3-7DA8-42FB-A25C-5751C20BECD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2 Pán buď s vami, kým sa zíd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múdrosť svoju vždy vám dávaj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 nádeji vás zachovávaj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án buď s vami, kým sa zíde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ievaj vám mannu z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deľuj, čo k blahu tr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chovaj vás v láske svoj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žeň všetky nepoko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chrice keď budú hroz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vami zostaň pokoj Bo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46:40Z</dcterms:modified>
  <cp:revision>94</cp:revision>
  <dc:subject/>
  <dc:title>Je veľký náš Pán, on slávy je Kráľ Nech do všetkých strán  spev vrúcnych znie chvál.</dc:title>
</cp:coreProperties>
</file>